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4D1-0914-4C3F-AB30-932A224E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24F-4CB2-4826-A306-85C2E1F7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212-15C7-4248-8691-B656B5A3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983-374A-4D27-AFDB-37AD0635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F7ED-9269-47EB-B9D8-0475C729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45A8-97BF-43F2-94B9-8E0414E6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B4C6-82FA-4326-9DD7-1B9B1E82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4C77-DE1F-45AA-B596-5B915849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A978-F835-4C7C-8EC0-A8E7DC6D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FEC0-1D6C-4C94-A845-F5B8884E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1464-AE08-4F6B-8B8C-8D682A50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EA6-958C-48EB-A9B0-5BE48965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F634-5276-4D3D-8A67-038701B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5F95-0CC2-4D7B-A0C1-63CDDD0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BE61-9336-46CE-BE75-613858B8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7692-B361-4EAC-B60A-4582AE26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BEF1-D6A2-48BE-A3FF-6A08B4B1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432-1ABD-4183-8F4A-86022A1E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665-0AF5-42DF-9E63-61F30030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8A5-ED67-4B3C-9245-A07A0BF4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00C-A7E1-4E56-BE72-8D815154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A40-FDAC-44E1-AB79-DAC9A7B4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56B-A575-4500-8F26-C5A1FA9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EC2-220B-4E5B-8215-FDB5F558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3D16-B7A8-4BF3-B34E-403A7D809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7ED8-6848-4476-B338-EE1E33FD8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40360" y="260280"/>
            <a:ext cx="1008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rian</a:t>
            </a:r>
            <a:br>
              <a:rPr sz="4800"/>
            </a:b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42560" y="2268000"/>
            <a:ext cx="678204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5480" y="76500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r arian a ddefnyddir ym Mhrydain heddiw y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076640"/>
            <a:ext cx="845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eth yw’r nifer lleiaf o ddarnau arian y gellir e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efnyddio i gr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(a) 83 c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(b) £ 1.34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(c) £ 5.27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9720" y="5397480"/>
            <a:ext cx="75524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eth yw’r swm lleiaf y gellir ei greu gyda mwy na phu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arn o arian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19280" y="1197000"/>
            <a:ext cx="5371560" cy="2857320"/>
            <a:chOff x="1619280" y="1197000"/>
            <a:chExt cx="5371560" cy="2857320"/>
          </a:xfrm>
        </p:grpSpPr>
        <p:grpSp>
          <p:nvGrpSpPr>
            <p:cNvPr id="104" name=""/>
            <p:cNvGrpSpPr/>
            <p:nvPr/>
          </p:nvGrpSpPr>
          <p:grpSpPr>
            <a:xfrm>
              <a:off x="1962000" y="1197000"/>
              <a:ext cx="4457160" cy="1185480"/>
              <a:chOff x="1962000" y="1197000"/>
              <a:chExt cx="4457160" cy="11854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62000" y="1539720"/>
                <a:ext cx="685440" cy="685800"/>
              </a:xfrm>
              <a:prstGeom prst="ellipse">
                <a:avLst/>
              </a:prstGeom>
              <a:solidFill>
                <a:srgbClr val="99330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1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76400" y="1311120"/>
                <a:ext cx="1036800" cy="1071000"/>
              </a:xfrm>
              <a:prstGeom prst="ellipse">
                <a:avLst/>
              </a:prstGeom>
              <a:solidFill>
                <a:srgbClr val="99330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2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48000" y="1539720"/>
                <a:ext cx="685440" cy="685800"/>
              </a:xfrm>
              <a:prstGeom prst="ellipse">
                <a:avLst/>
              </a:prstGeom>
              <a:solidFill>
                <a:srgbClr val="c0c0c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5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76520" y="1197000"/>
                <a:ext cx="1142640" cy="1185480"/>
              </a:xfrm>
              <a:prstGeom prst="ellipse">
                <a:avLst/>
              </a:prstGeom>
              <a:solidFill>
                <a:srgbClr val="c0c0c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10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619280" y="2682720"/>
              <a:ext cx="5371560" cy="1371600"/>
              <a:chOff x="1619280" y="2682720"/>
              <a:chExt cx="53715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4362120" y="2910960"/>
                <a:ext cx="1036800" cy="1071360"/>
              </a:xfrm>
              <a:prstGeom prst="ellipse">
                <a:avLst/>
              </a:prstGeom>
              <a:solidFill>
                <a:srgbClr val="ffcc00">
                  <a:alpha val="5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£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5619600" y="2682720"/>
                <a:ext cx="1371240" cy="1371600"/>
                <a:chOff x="5619600" y="2682720"/>
                <a:chExt cx="1371240" cy="13716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619600" y="2682720"/>
                  <a:ext cx="1371240" cy="1371600"/>
                </a:xfrm>
                <a:prstGeom prst="ellipse">
                  <a:avLst/>
                </a:prstGeom>
                <a:solidFill>
                  <a:srgbClr val="ffcc00">
                    <a:alpha val="40000"/>
                  </a:srgbClr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815440" y="2878560"/>
                  <a:ext cx="979200" cy="979560"/>
                </a:xfrm>
                <a:prstGeom prst="ellipse">
                  <a:avLst/>
                </a:prstGeom>
                <a:solidFill>
                  <a:srgbClr val="c0c0c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y-GB" sz="2200" spc="-1" strike="noStrike">
                      <a:solidFill>
                        <a:srgbClr val="000000"/>
                      </a:solidFill>
                      <a:latin typeface="Comic Sans MS"/>
                      <a:ea typeface="SimSun"/>
                    </a:rPr>
                    <a:t>£2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2760120" y="2682720"/>
                <a:ext cx="1257120" cy="1257120"/>
              </a:xfrm>
              <a:prstGeom prst="octagon">
                <a:avLst>
                  <a:gd name="adj" fmla="val 29287"/>
                </a:avLst>
              </a:prstGeom>
              <a:solidFill>
                <a:srgbClr val="c0c0c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50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19280" y="3025440"/>
                <a:ext cx="914040" cy="914400"/>
              </a:xfrm>
              <a:prstGeom prst="octagon">
                <a:avLst>
                  <a:gd name="adj" fmla="val 29287"/>
                </a:avLst>
              </a:prstGeom>
              <a:solidFill>
                <a:srgbClr val="c0c0c0">
                  <a:alpha val="70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y-GB" sz="2200" spc="-1" strike="noStrike">
                    <a:solidFill>
                      <a:srgbClr val="000000"/>
                    </a:solidFill>
                    <a:latin typeface="Comic Sans MS"/>
                    <a:ea typeface="SimSun"/>
                  </a:rPr>
                  <a:t>20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33:26Z</dcterms:created>
  <dc:creator>Carwyn</dc:creator>
  <dc:description/>
  <dc:language>en-US</dc:language>
  <cp:lastModifiedBy>Carwyn</cp:lastModifiedBy>
  <dcterms:modified xsi:type="dcterms:W3CDTF">2008-12-07T19:39:03Z</dcterms:modified>
  <cp:revision>1</cp:revision>
  <dc:subject/>
  <dc:title>Arian </dc:title>
</cp:coreProperties>
</file>